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9881-C39E-42F8-83D9-DEAA02AA4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680A-24CB-466A-94B2-AB679E5BA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2BAA-AB41-4F47-AD92-7BF3073B3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8A6DA-6D03-450E-AF81-5D718B7632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93CB-4D9D-4604-BA01-D70E3B8F3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C958-47B5-4141-A1D5-19A4B25D9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84A4-9B66-4C81-93AE-BD8FD0B62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D83E-C1D6-4877-ABE1-F6B53408D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5E12-48BB-4241-AEC6-14E67C0E2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D8F2-5C45-4B39-9961-DDE57520F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4CF3-918B-4653-BC2F-643BF3DAE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2D40-F33E-4B6E-953F-BAE0BE12B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980720" y="64771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CE32-41E7-420B-8104-7DC76690E144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tage 1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Preparing for Research</a:t>
            </a:r>
            <a:endParaRPr b="1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35053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Success  @ Your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uide for Secondary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71840" y="463680"/>
            <a:ext cx="4502160" cy="5790960"/>
            <a:chOff x="4371840" y="463680"/>
            <a:chExt cx="4502160" cy="57909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71840" y="463680"/>
              <a:ext cx="450216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495680" y="609480"/>
              <a:ext cx="4267440" cy="548640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64A0-F661-4229-B174-6666E1F129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76720" y="1676520"/>
            <a:ext cx="2438280" cy="1447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5880" y="167652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960" y="152280"/>
            <a:ext cx="243864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6002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BROADLY             – Generali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228600"/>
            <a:ext cx="243828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1676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PEOPLE, PLACES,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3280" y="3276720"/>
            <a:ext cx="243828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47242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NARROW 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43400"/>
            <a:ext cx="243828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581976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SYNONYMS      – Find other ways to say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276720"/>
            <a:ext cx="243828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53240" y="4748040"/>
            <a:ext cx="32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CONNE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e to other subjects, discip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4" idx="0"/>
            <a:endCxn id="196" idx="3"/>
          </p:cNvCxnSpPr>
          <p:nvPr/>
        </p:nvCxnSpPr>
        <p:spPr>
          <a:xfrm flipH="1" flipV="1">
            <a:off x="2865240" y="875520"/>
            <a:ext cx="163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4" idx="0"/>
            <a:endCxn id="198" idx="1"/>
          </p:cNvCxnSpPr>
          <p:nvPr/>
        </p:nvCxnSpPr>
        <p:spPr>
          <a:xfrm flipV="1">
            <a:off x="4495320" y="951840"/>
            <a:ext cx="1677240" cy="71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4" idx="1"/>
            <a:endCxn id="200" idx="0"/>
          </p:cNvCxnSpPr>
          <p:nvPr/>
        </p:nvCxnSpPr>
        <p:spPr>
          <a:xfrm flipH="1">
            <a:off x="1721880" y="2400480"/>
            <a:ext cx="154044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4" idx="3"/>
            <a:endCxn id="204" idx="0"/>
          </p:cNvCxnSpPr>
          <p:nvPr/>
        </p:nvCxnSpPr>
        <p:spPr>
          <a:xfrm>
            <a:off x="5729400" y="2400480"/>
            <a:ext cx="17388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4" idx="2"/>
            <a:endCxn id="202" idx="0"/>
          </p:cNvCxnSpPr>
          <p:nvPr/>
        </p:nvCxnSpPr>
        <p:spPr>
          <a:xfrm>
            <a:off x="4495320" y="3138120"/>
            <a:ext cx="1080" cy="12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3124080" y="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trategy 2  Guided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09B7-4874-4B66-BDCD-074057C539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22560" y="3000240"/>
            <a:ext cx="1447920" cy="838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9920" y="320040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403360" y="1523880"/>
            <a:ext cx="4495680" cy="3733920"/>
            <a:chOff x="2403360" y="1523880"/>
            <a:chExt cx="4495680" cy="3733920"/>
          </a:xfrm>
        </p:grpSpPr>
        <p:sp>
          <p:nvSpPr>
            <p:cNvPr id="215" name=""/>
            <p:cNvSpPr/>
            <p:nvPr/>
          </p:nvSpPr>
          <p:spPr>
            <a:xfrm>
              <a:off x="2403360" y="2886120"/>
              <a:ext cx="1219320" cy="1066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80080" y="2886120"/>
              <a:ext cx="1218960" cy="1066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38480" y="4191120"/>
              <a:ext cx="1219320" cy="1066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38480" y="1523880"/>
              <a:ext cx="1219320" cy="10670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2" idx="2"/>
              <a:endCxn id="215" idx="3"/>
            </p:cNvCxnSpPr>
            <p:nvPr/>
          </p:nvCxnSpPr>
          <p:spPr>
            <a:xfrm flipH="1">
              <a:off x="3621960" y="3419280"/>
              <a:ext cx="300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stCxn id="212" idx="6"/>
              <a:endCxn id="216" idx="1"/>
            </p:cNvCxnSpPr>
            <p:nvPr/>
          </p:nvCxnSpPr>
          <p:spPr>
            <a:xfrm>
              <a:off x="5370480" y="3419280"/>
              <a:ext cx="310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2" idx="0"/>
              <a:endCxn id="218" idx="2"/>
            </p:cNvCxnSpPr>
            <p:nvPr/>
          </p:nvCxnSpPr>
          <p:spPr>
            <a:xfrm flipV="1">
              <a:off x="4646520" y="2590200"/>
              <a:ext cx="216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2" idx="4"/>
              <a:endCxn id="217" idx="0"/>
            </p:cNvCxnSpPr>
            <p:nvPr/>
          </p:nvCxnSpPr>
          <p:spPr>
            <a:xfrm>
              <a:off x="4646520" y="3838320"/>
              <a:ext cx="216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4344480" y="18288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45920" y="320040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92480" y="320040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8520" y="449568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4920" y="1981080"/>
            <a:ext cx="2708280" cy="2667240"/>
            <a:chOff x="304920" y="1981080"/>
            <a:chExt cx="2708280" cy="2667240"/>
          </a:xfrm>
        </p:grpSpPr>
        <p:sp>
          <p:nvSpPr>
            <p:cNvPr id="228" name=""/>
            <p:cNvSpPr/>
            <p:nvPr/>
          </p:nvSpPr>
          <p:spPr>
            <a:xfrm>
              <a:off x="304920" y="1981080"/>
              <a:ext cx="1752840" cy="7621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3886200"/>
              <a:ext cx="1752840" cy="7621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0" name=""/>
            <p:cNvCxnSpPr>
              <a:stCxn id="215" idx="0"/>
              <a:endCxn id="228" idx="3"/>
            </p:cNvCxnSpPr>
            <p:nvPr/>
          </p:nvCxnSpPr>
          <p:spPr>
            <a:xfrm flipH="1" flipV="1">
              <a:off x="2057400" y="2361960"/>
              <a:ext cx="956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1" name=""/>
            <p:cNvCxnSpPr>
              <a:stCxn id="215" idx="2"/>
              <a:endCxn id="229" idx="3"/>
            </p:cNvCxnSpPr>
            <p:nvPr/>
          </p:nvCxnSpPr>
          <p:spPr>
            <a:xfrm flipH="1">
              <a:off x="2057400" y="3952440"/>
              <a:ext cx="956160" cy="31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>
              <a:off x="457560" y="198108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ace Debr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4240" y="403848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ap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286000" y="4723920"/>
            <a:ext cx="4647960" cy="1600560"/>
            <a:chOff x="2286000" y="4723920"/>
            <a:chExt cx="4647960" cy="1600560"/>
          </a:xfrm>
        </p:grpSpPr>
        <p:sp>
          <p:nvSpPr>
            <p:cNvPr id="235" name=""/>
            <p:cNvSpPr/>
            <p:nvPr/>
          </p:nvSpPr>
          <p:spPr>
            <a:xfrm>
              <a:off x="2286000" y="5562720"/>
              <a:ext cx="1752480" cy="7617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480" y="5562720"/>
              <a:ext cx="1752480" cy="7617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7" idx="1"/>
            </p:cNvCxnSpPr>
            <p:nvPr/>
          </p:nvCxnSpPr>
          <p:spPr>
            <a:xfrm flipH="1">
              <a:off x="3123720" y="4723920"/>
              <a:ext cx="915120" cy="83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7" idx="3"/>
              <a:endCxn id="236" idx="0"/>
            </p:cNvCxnSpPr>
            <p:nvPr/>
          </p:nvCxnSpPr>
          <p:spPr>
            <a:xfrm>
              <a:off x="5257800" y="4723920"/>
              <a:ext cx="800640" cy="83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2392200" y="574524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stici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10080" y="560880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xic Wa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286000" y="304920"/>
            <a:ext cx="4647960" cy="1752480"/>
            <a:chOff x="2286000" y="304920"/>
            <a:chExt cx="4647960" cy="1752480"/>
          </a:xfrm>
        </p:grpSpPr>
        <p:grpSp>
          <p:nvGrpSpPr>
            <p:cNvPr id="242" name=""/>
            <p:cNvGrpSpPr/>
            <p:nvPr/>
          </p:nvGrpSpPr>
          <p:grpSpPr>
            <a:xfrm>
              <a:off x="2286000" y="304920"/>
              <a:ext cx="1752480" cy="1752480"/>
              <a:chOff x="2286000" y="304920"/>
              <a:chExt cx="1752480" cy="1752480"/>
            </a:xfrm>
          </p:grpSpPr>
          <p:sp>
            <p:nvSpPr>
              <p:cNvPr id="243" name=""/>
              <p:cNvSpPr/>
              <p:nvPr/>
            </p:nvSpPr>
            <p:spPr>
              <a:xfrm>
                <a:off x="2286000" y="304920"/>
                <a:ext cx="175248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4" name=""/>
              <p:cNvCxnSpPr>
                <a:stCxn id="218" idx="1"/>
                <a:endCxn id="243" idx="2"/>
              </p:cNvCxnSpPr>
              <p:nvPr/>
            </p:nvCxnSpPr>
            <p:spPr>
              <a:xfrm flipH="1" flipV="1">
                <a:off x="3161880" y="1066320"/>
                <a:ext cx="876960" cy="9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5" name=""/>
              <p:cNvSpPr/>
              <p:nvPr/>
            </p:nvSpPr>
            <p:spPr>
              <a:xfrm>
                <a:off x="2514600" y="3348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hicle Exhau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5181480" y="304920"/>
              <a:ext cx="1752480" cy="1752480"/>
              <a:chOff x="5181480" y="304920"/>
              <a:chExt cx="1752480" cy="1752480"/>
            </a:xfrm>
          </p:grpSpPr>
          <p:sp>
            <p:nvSpPr>
              <p:cNvPr id="247" name=""/>
              <p:cNvSpPr/>
              <p:nvPr/>
            </p:nvSpPr>
            <p:spPr>
              <a:xfrm>
                <a:off x="5181480" y="304920"/>
                <a:ext cx="175248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8" name=""/>
              <p:cNvCxnSpPr>
                <a:stCxn id="218" idx="3"/>
                <a:endCxn id="247" idx="2"/>
              </p:cNvCxnSpPr>
              <p:nvPr/>
            </p:nvCxnSpPr>
            <p:spPr>
              <a:xfrm flipV="1">
                <a:off x="5257800" y="1066320"/>
                <a:ext cx="800640" cy="9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9" name=""/>
              <p:cNvSpPr/>
              <p:nvPr/>
            </p:nvSpPr>
            <p:spPr>
              <a:xfrm>
                <a:off x="5257800" y="380880"/>
                <a:ext cx="1523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ndustrial Emiss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289200" y="1981080"/>
            <a:ext cx="2778480" cy="2667240"/>
            <a:chOff x="6289200" y="1981080"/>
            <a:chExt cx="2778480" cy="2667240"/>
          </a:xfrm>
        </p:grpSpPr>
        <p:grpSp>
          <p:nvGrpSpPr>
            <p:cNvPr id="251" name=""/>
            <p:cNvGrpSpPr/>
            <p:nvPr/>
          </p:nvGrpSpPr>
          <p:grpSpPr>
            <a:xfrm>
              <a:off x="6289200" y="1981080"/>
              <a:ext cx="2778480" cy="904680"/>
              <a:chOff x="6289200" y="1981080"/>
              <a:chExt cx="2778480" cy="90468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5200" y="1981080"/>
                <a:ext cx="175248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3" name=""/>
              <p:cNvCxnSpPr>
                <a:stCxn id="216" idx="0"/>
                <a:endCxn id="252" idx="1"/>
              </p:cNvCxnSpPr>
              <p:nvPr/>
            </p:nvCxnSpPr>
            <p:spPr>
              <a:xfrm flipV="1">
                <a:off x="6289200" y="2361960"/>
                <a:ext cx="1026360" cy="52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4" name=""/>
              <p:cNvSpPr/>
              <p:nvPr/>
            </p:nvSpPr>
            <p:spPr>
              <a:xfrm>
                <a:off x="7467480" y="219384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il Spil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289200" y="3886200"/>
              <a:ext cx="2778480" cy="762120"/>
              <a:chOff x="6289200" y="3886200"/>
              <a:chExt cx="2778480" cy="762120"/>
            </a:xfrm>
          </p:grpSpPr>
          <p:sp>
            <p:nvSpPr>
              <p:cNvPr id="256" name=""/>
              <p:cNvSpPr/>
              <p:nvPr/>
            </p:nvSpPr>
            <p:spPr>
              <a:xfrm>
                <a:off x="7315200" y="3886200"/>
                <a:ext cx="175248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7" name=""/>
              <p:cNvCxnSpPr>
                <a:stCxn id="216" idx="2"/>
                <a:endCxn id="256" idx="1"/>
              </p:cNvCxnSpPr>
              <p:nvPr/>
            </p:nvCxnSpPr>
            <p:spPr>
              <a:xfrm>
                <a:off x="6289200" y="3952440"/>
                <a:ext cx="1026360" cy="315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8" name=""/>
              <p:cNvSpPr/>
              <p:nvPr/>
            </p:nvSpPr>
            <p:spPr>
              <a:xfrm>
                <a:off x="7467480" y="40989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wa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-76320" y="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trategy 3 Classifying Ext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7DC7-773C-4CF0-AC3D-1FD4323B0C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22560" y="3152880"/>
            <a:ext cx="1447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457200"/>
            <a:ext cx="175248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457200"/>
            <a:ext cx="175284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5715000"/>
            <a:ext cx="175248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5715000"/>
            <a:ext cx="175284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5200" y="2133720"/>
            <a:ext cx="175248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15200" y="4038480"/>
            <a:ext cx="175248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2133720"/>
            <a:ext cx="175248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4038480"/>
            <a:ext cx="175248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1"/>
            <a:endCxn id="261" idx="2"/>
          </p:cNvCxnSpPr>
          <p:nvPr/>
        </p:nvCxnSpPr>
        <p:spPr>
          <a:xfrm flipH="1" flipV="1">
            <a:off x="3161880" y="1218600"/>
            <a:ext cx="8769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2403360" y="303840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80080" y="303840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4343400"/>
            <a:ext cx="12193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1676520"/>
            <a:ext cx="12193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0" idx="3"/>
            <a:endCxn id="262" idx="2"/>
          </p:cNvCxnSpPr>
          <p:nvPr/>
        </p:nvCxnSpPr>
        <p:spPr>
          <a:xfrm flipV="1">
            <a:off x="5257440" y="1218600"/>
            <a:ext cx="8010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0" idx="2"/>
            <a:endCxn id="271" idx="3"/>
          </p:cNvCxnSpPr>
          <p:nvPr/>
        </p:nvCxnSpPr>
        <p:spPr>
          <a:xfrm flipH="1">
            <a:off x="3621960" y="3571560"/>
            <a:ext cx="30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0" idx="6"/>
            <a:endCxn id="272" idx="1"/>
          </p:cNvCxnSpPr>
          <p:nvPr/>
        </p:nvCxnSpPr>
        <p:spPr>
          <a:xfrm>
            <a:off x="5370480" y="357156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0" idx="0"/>
            <a:endCxn id="270" idx="2"/>
          </p:cNvCxnSpPr>
          <p:nvPr/>
        </p:nvCxnSpPr>
        <p:spPr>
          <a:xfrm flipV="1">
            <a:off x="4646160" y="2742840"/>
            <a:ext cx="252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0" idx="4"/>
            <a:endCxn id="273" idx="0"/>
          </p:cNvCxnSpPr>
          <p:nvPr/>
        </p:nvCxnSpPr>
        <p:spPr>
          <a:xfrm>
            <a:off x="4646160" y="3990600"/>
            <a:ext cx="25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1" idx="0"/>
            <a:endCxn id="267" idx="3"/>
          </p:cNvCxnSpPr>
          <p:nvPr/>
        </p:nvCxnSpPr>
        <p:spPr>
          <a:xfrm flipH="1" flipV="1">
            <a:off x="2056680" y="2514240"/>
            <a:ext cx="9565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2"/>
            <a:endCxn id="268" idx="3"/>
          </p:cNvCxnSpPr>
          <p:nvPr/>
        </p:nvCxnSpPr>
        <p:spPr>
          <a:xfrm flipH="1">
            <a:off x="2056680" y="4105080"/>
            <a:ext cx="956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3" idx="1"/>
          </p:cNvCxnSpPr>
          <p:nvPr/>
        </p:nvCxnSpPr>
        <p:spPr>
          <a:xfrm flipH="1">
            <a:off x="3123720" y="4876920"/>
            <a:ext cx="9151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3" idx="3"/>
            <a:endCxn id="264" idx="0"/>
          </p:cNvCxnSpPr>
          <p:nvPr/>
        </p:nvCxnSpPr>
        <p:spPr>
          <a:xfrm>
            <a:off x="5257440" y="4876920"/>
            <a:ext cx="8010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2" idx="0"/>
            <a:endCxn id="265" idx="1"/>
          </p:cNvCxnSpPr>
          <p:nvPr/>
        </p:nvCxnSpPr>
        <p:spPr>
          <a:xfrm flipV="1">
            <a:off x="6289200" y="2514240"/>
            <a:ext cx="10263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2" idx="2"/>
            <a:endCxn id="266" idx="1"/>
          </p:cNvCxnSpPr>
          <p:nvPr/>
        </p:nvCxnSpPr>
        <p:spPr>
          <a:xfrm>
            <a:off x="6289200" y="4105080"/>
            <a:ext cx="102636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4252680" y="317196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trategy 3 Classifying Ext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9BB4-FB8F-4727-AC8A-CB76D79E03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Banks of Keywords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List: synonyms and related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when searching library catalogues, table of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contents, indexes, databases, and websi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0880" y="2514600"/>
            <a:ext cx="8000640" cy="3809520"/>
            <a:chOff x="380880" y="2514600"/>
            <a:chExt cx="8000640" cy="3809520"/>
          </a:xfrm>
        </p:grpSpPr>
        <p:grpSp>
          <p:nvGrpSpPr>
            <p:cNvPr id="290" name=""/>
            <p:cNvGrpSpPr/>
            <p:nvPr/>
          </p:nvGrpSpPr>
          <p:grpSpPr>
            <a:xfrm>
              <a:off x="385920" y="2519280"/>
              <a:ext cx="7989480" cy="3798720"/>
              <a:chOff x="385920" y="2519280"/>
              <a:chExt cx="7989480" cy="379872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85920" y="2519280"/>
                <a:ext cx="1896120" cy="683280"/>
                <a:chOff x="385920" y="2519280"/>
                <a:chExt cx="1896120" cy="6832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85920" y="2519280"/>
                  <a:ext cx="1896120" cy="683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385920" y="2519280"/>
                  <a:ext cx="1895760" cy="682920"/>
                  <a:chOff x="385920" y="2519280"/>
                  <a:chExt cx="1895760" cy="68292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463320" y="2519280"/>
                    <a:ext cx="1741320" cy="682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Topi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85920" y="2519280"/>
                    <a:ext cx="18957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6" name=""/>
              <p:cNvGrpSpPr/>
              <p:nvPr/>
            </p:nvGrpSpPr>
            <p:grpSpPr>
              <a:xfrm>
                <a:off x="2282400" y="2519280"/>
                <a:ext cx="1973520" cy="683280"/>
                <a:chOff x="2282400" y="2519280"/>
                <a:chExt cx="1973520" cy="683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282400" y="2519280"/>
                  <a:ext cx="1973520" cy="683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2282400" y="2519280"/>
                  <a:ext cx="1973160" cy="682920"/>
                  <a:chOff x="2282400" y="2519280"/>
                  <a:chExt cx="1973160" cy="6829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2359800" y="2519280"/>
                    <a:ext cx="1818720" cy="682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Keyword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282400" y="2519280"/>
                    <a:ext cx="19731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4256640" y="2519280"/>
                <a:ext cx="423720" cy="683280"/>
                <a:chOff x="4256640" y="2519280"/>
                <a:chExt cx="423720" cy="6832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333680" y="2519280"/>
                  <a:ext cx="26892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256640" y="2519280"/>
                  <a:ext cx="4237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681080" y="2519280"/>
                <a:ext cx="1996920" cy="683280"/>
                <a:chOff x="4681080" y="2519280"/>
                <a:chExt cx="1996920" cy="6832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681080" y="2519280"/>
                  <a:ext cx="1996920" cy="683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4681080" y="2519280"/>
                  <a:ext cx="1996560" cy="682920"/>
                  <a:chOff x="4681080" y="2519280"/>
                  <a:chExt cx="1996560" cy="68292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4757760" y="2519280"/>
                    <a:ext cx="1842120" cy="682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8160" bIns="381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Times New Roman"/>
                      </a:rPr>
                      <a:t>Topi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681080" y="2519280"/>
                    <a:ext cx="19965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6678720" y="2519280"/>
                <a:ext cx="1696680" cy="683280"/>
                <a:chOff x="6678720" y="2519280"/>
                <a:chExt cx="1696680" cy="683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678720" y="2519280"/>
                  <a:ext cx="1696680" cy="683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6678720" y="2519280"/>
                  <a:ext cx="1696320" cy="682920"/>
                  <a:chOff x="6678720" y="2519280"/>
                  <a:chExt cx="1696320" cy="68292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756120" y="2519280"/>
                    <a:ext cx="1541520" cy="682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Keyword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678720" y="2519280"/>
                    <a:ext cx="169632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" name=""/>
              <p:cNvGrpSpPr/>
              <p:nvPr/>
            </p:nvGrpSpPr>
            <p:grpSpPr>
              <a:xfrm>
                <a:off x="385920" y="3202920"/>
                <a:ext cx="1896120" cy="1043280"/>
                <a:chOff x="385920" y="3202920"/>
                <a:chExt cx="1896120" cy="10432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63320" y="3202920"/>
                  <a:ext cx="17416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8160" bIns="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ollu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5920" y="3202920"/>
                  <a:ext cx="18961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282400" y="3202920"/>
                <a:ext cx="1973520" cy="1043280"/>
                <a:chOff x="2282400" y="3202920"/>
                <a:chExt cx="1973520" cy="1043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359800" y="3202920"/>
                  <a:ext cx="18190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llution, oil spill, pesticid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82400" y="3202920"/>
                  <a:ext cx="19735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256640" y="3202920"/>
                <a:ext cx="423720" cy="1043280"/>
                <a:chOff x="4256640" y="3202920"/>
                <a:chExt cx="423720" cy="10432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333680" y="3202920"/>
                  <a:ext cx="26892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256640" y="3202920"/>
                  <a:ext cx="4237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681080" y="3202920"/>
                <a:ext cx="1996920" cy="1043280"/>
                <a:chOff x="4681080" y="3202920"/>
                <a:chExt cx="1996920" cy="10432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758120" y="3202920"/>
                  <a:ext cx="18424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681080" y="3202920"/>
                  <a:ext cx="19969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678720" y="3202920"/>
                <a:ext cx="1696680" cy="1043280"/>
                <a:chOff x="6678720" y="3202920"/>
                <a:chExt cx="1696680" cy="10432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756120" y="3202920"/>
                  <a:ext cx="15418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78720" y="3202920"/>
                  <a:ext cx="169668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385920" y="4246560"/>
                <a:ext cx="1896120" cy="1043280"/>
                <a:chOff x="385920" y="4246560"/>
                <a:chExt cx="1896120" cy="10432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63320" y="4246560"/>
                  <a:ext cx="17416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8160" bIns="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mmigr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85920" y="4246560"/>
                  <a:ext cx="18961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282400" y="4246560"/>
                <a:ext cx="1973520" cy="1043280"/>
                <a:chOff x="2282400" y="4246560"/>
                <a:chExt cx="1973520" cy="10432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359800" y="4246560"/>
                  <a:ext cx="18190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mmigration, citizenship, refuge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282400" y="4246560"/>
                  <a:ext cx="19735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256640" y="4246560"/>
                <a:ext cx="423720" cy="1043280"/>
                <a:chOff x="4256640" y="4246560"/>
                <a:chExt cx="423720" cy="10432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333680" y="4246560"/>
                  <a:ext cx="26892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256640" y="4246560"/>
                  <a:ext cx="4237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681080" y="4246560"/>
                <a:ext cx="1996920" cy="1043280"/>
                <a:chOff x="4681080" y="4246560"/>
                <a:chExt cx="1996920" cy="10432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758120" y="4246560"/>
                  <a:ext cx="18424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681080" y="4246560"/>
                  <a:ext cx="19969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6678720" y="4246560"/>
                <a:ext cx="1696680" cy="1043280"/>
                <a:chOff x="6678720" y="4246560"/>
                <a:chExt cx="1696680" cy="10432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756120" y="4246560"/>
                  <a:ext cx="15418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78720" y="4246560"/>
                  <a:ext cx="169668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85920" y="5290200"/>
                <a:ext cx="1896120" cy="1027800"/>
                <a:chOff x="385920" y="5290200"/>
                <a:chExt cx="1896120" cy="10278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63320" y="5290200"/>
                  <a:ext cx="174168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8160" bIns="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ealthy liv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5920" y="5290200"/>
                  <a:ext cx="189612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282400" y="5290200"/>
                <a:ext cx="1973520" cy="1027800"/>
                <a:chOff x="2282400" y="5290200"/>
                <a:chExt cx="1973520" cy="10278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359800" y="5290200"/>
                  <a:ext cx="181908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moking, “mind and body”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82400" y="5290200"/>
                  <a:ext cx="197352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256640" y="5290200"/>
                <a:ext cx="423720" cy="1027800"/>
                <a:chOff x="4256640" y="5290200"/>
                <a:chExt cx="423720" cy="10278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333680" y="5290200"/>
                  <a:ext cx="26892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256640" y="5290200"/>
                  <a:ext cx="42372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681080" y="5290200"/>
                <a:ext cx="1996920" cy="1027800"/>
                <a:chOff x="4681080" y="5290200"/>
                <a:chExt cx="1996920" cy="10278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758120" y="5290200"/>
                  <a:ext cx="184248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681080" y="5290200"/>
                  <a:ext cx="199692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678720" y="5290200"/>
                <a:ext cx="1696680" cy="1027800"/>
                <a:chOff x="6678720" y="5290200"/>
                <a:chExt cx="1696680" cy="10278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756120" y="5290200"/>
                  <a:ext cx="154188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78720" y="5290200"/>
                  <a:ext cx="169668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9" name=""/>
            <p:cNvSpPr/>
            <p:nvPr/>
          </p:nvSpPr>
          <p:spPr>
            <a:xfrm>
              <a:off x="380880" y="2514600"/>
              <a:ext cx="8000640" cy="380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1F7A-3A4E-40D5-899F-C6EE765029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K-N-R Chart: Identifying Your Information Needs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1447920"/>
            <a:ext cx="2590920" cy="25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48320" y="1447920"/>
            <a:ext cx="2590560" cy="2590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3886200"/>
            <a:ext cx="2590560" cy="2590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2895480"/>
            <a:ext cx="1447920" cy="14479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F674-F3B4-4978-AFB0-21C0855E86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SOURCES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o I need?</a:t>
            </a:r>
            <a:endParaRPr b="1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Informatio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ts or graph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 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depth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(e.g., geographical, histori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op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pectives on a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sources (e.g., diaries, let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onlin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s and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7960" y="990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ost Appropriate Resource(s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manacs and yearboo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tla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udio sources (e.g., CDs and tap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mpanions and handboo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tabases (e.g., EBS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cyclopedias (e.g., print or on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overnment s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ternet search direc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ternet search engi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fiction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riodicals (e.g., journals, magazines, and newspaper articles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chool Library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id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608D-5849-43CC-B289-1D35A68ECD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eveloping Quality Questions</a:t>
            </a:r>
            <a:endParaRPr b="1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95480" y="3276720"/>
            <a:ext cx="2743200" cy="685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73240" y="4114800"/>
            <a:ext cx="1646280" cy="2055960"/>
            <a:chOff x="1173240" y="4114800"/>
            <a:chExt cx="1646280" cy="2055960"/>
          </a:xfrm>
        </p:grpSpPr>
        <p:grpSp>
          <p:nvGrpSpPr>
            <p:cNvPr id="371" name=""/>
            <p:cNvGrpSpPr/>
            <p:nvPr/>
          </p:nvGrpSpPr>
          <p:grpSpPr>
            <a:xfrm>
              <a:off x="1173240" y="4114800"/>
              <a:ext cx="1646280" cy="1600200"/>
              <a:chOff x="1173240" y="4114800"/>
              <a:chExt cx="1646280" cy="1600200"/>
            </a:xfrm>
          </p:grpSpPr>
          <p:sp>
            <p:nvSpPr>
              <p:cNvPr id="372" name=""/>
              <p:cNvSpPr/>
              <p:nvPr/>
            </p:nvSpPr>
            <p:spPr>
              <a:xfrm>
                <a:off x="1173240" y="4114800"/>
                <a:ext cx="1646280" cy="160020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263600" y="4179600"/>
                <a:ext cx="1465560" cy="111456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97120" y="5378400"/>
                <a:ext cx="47304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1325520" y="5567400"/>
              <a:ext cx="137160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944640" y="1752480"/>
            <a:ext cx="1646280" cy="2055960"/>
            <a:chOff x="944640" y="1752480"/>
            <a:chExt cx="1646280" cy="2055960"/>
          </a:xfrm>
        </p:grpSpPr>
        <p:grpSp>
          <p:nvGrpSpPr>
            <p:cNvPr id="377" name=""/>
            <p:cNvGrpSpPr/>
            <p:nvPr/>
          </p:nvGrpSpPr>
          <p:grpSpPr>
            <a:xfrm>
              <a:off x="944640" y="1752480"/>
              <a:ext cx="1646280" cy="1600200"/>
              <a:chOff x="944640" y="1752480"/>
              <a:chExt cx="1646280" cy="1600200"/>
            </a:xfrm>
          </p:grpSpPr>
          <p:sp>
            <p:nvSpPr>
              <p:cNvPr id="378" name=""/>
              <p:cNvSpPr/>
              <p:nvPr/>
            </p:nvSpPr>
            <p:spPr>
              <a:xfrm>
                <a:off x="944640" y="1752480"/>
                <a:ext cx="1646280" cy="160020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35360" y="1817280"/>
                <a:ext cx="1465200" cy="111456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568520" y="3016080"/>
                <a:ext cx="47304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1097280" y="3205080"/>
              <a:ext cx="137160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505320" y="1143000"/>
            <a:ext cx="1644840" cy="2055960"/>
            <a:chOff x="3505320" y="1143000"/>
            <a:chExt cx="1644840" cy="2055960"/>
          </a:xfrm>
        </p:grpSpPr>
        <p:grpSp>
          <p:nvGrpSpPr>
            <p:cNvPr id="383" name=""/>
            <p:cNvGrpSpPr/>
            <p:nvPr/>
          </p:nvGrpSpPr>
          <p:grpSpPr>
            <a:xfrm>
              <a:off x="3505320" y="1143000"/>
              <a:ext cx="1644840" cy="1599480"/>
              <a:chOff x="3505320" y="1143000"/>
              <a:chExt cx="1644840" cy="1599480"/>
            </a:xfrm>
          </p:grpSpPr>
          <p:sp>
            <p:nvSpPr>
              <p:cNvPr id="384" name=""/>
              <p:cNvSpPr/>
              <p:nvPr/>
            </p:nvSpPr>
            <p:spPr>
              <a:xfrm>
                <a:off x="3505320" y="1143000"/>
                <a:ext cx="1644840" cy="159948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595320" y="1208520"/>
                <a:ext cx="1464120" cy="111240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28480" y="2406240"/>
                <a:ext cx="47304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3733920" y="2595600"/>
              <a:ext cx="137160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049800" y="1752480"/>
            <a:ext cx="1646280" cy="2050920"/>
            <a:chOff x="6049800" y="1752480"/>
            <a:chExt cx="1646280" cy="2050920"/>
          </a:xfrm>
        </p:grpSpPr>
        <p:grpSp>
          <p:nvGrpSpPr>
            <p:cNvPr id="389" name=""/>
            <p:cNvGrpSpPr/>
            <p:nvPr/>
          </p:nvGrpSpPr>
          <p:grpSpPr>
            <a:xfrm>
              <a:off x="6049800" y="1752480"/>
              <a:ext cx="1646280" cy="1600200"/>
              <a:chOff x="6049800" y="1752480"/>
              <a:chExt cx="1646280" cy="1600200"/>
            </a:xfrm>
          </p:grpSpPr>
          <p:sp>
            <p:nvSpPr>
              <p:cNvPr id="390" name=""/>
              <p:cNvSpPr/>
              <p:nvPr/>
            </p:nvSpPr>
            <p:spPr>
              <a:xfrm>
                <a:off x="6049800" y="1752480"/>
                <a:ext cx="1646280" cy="160020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40520" y="1817280"/>
                <a:ext cx="1465200" cy="111456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73680" y="3016080"/>
                <a:ext cx="47304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6095880" y="3200040"/>
              <a:ext cx="160020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715000" y="4114800"/>
            <a:ext cx="1981080" cy="2051280"/>
            <a:chOff x="5715000" y="4114800"/>
            <a:chExt cx="1981080" cy="2051280"/>
          </a:xfrm>
        </p:grpSpPr>
        <p:grpSp>
          <p:nvGrpSpPr>
            <p:cNvPr id="395" name=""/>
            <p:cNvGrpSpPr/>
            <p:nvPr/>
          </p:nvGrpSpPr>
          <p:grpSpPr>
            <a:xfrm>
              <a:off x="5867280" y="4114800"/>
              <a:ext cx="1645920" cy="1600200"/>
              <a:chOff x="5867280" y="4114800"/>
              <a:chExt cx="1645920" cy="1600200"/>
            </a:xfrm>
          </p:grpSpPr>
          <p:sp>
            <p:nvSpPr>
              <p:cNvPr id="396" name=""/>
              <p:cNvSpPr/>
              <p:nvPr/>
            </p:nvSpPr>
            <p:spPr>
              <a:xfrm>
                <a:off x="5867280" y="4114800"/>
                <a:ext cx="1645920" cy="160020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957280" y="4179600"/>
                <a:ext cx="1464840" cy="111456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90800" y="5378400"/>
                <a:ext cx="47268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5715000" y="5562720"/>
              <a:ext cx="198108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505320" y="4267080"/>
            <a:ext cx="1676160" cy="2051280"/>
            <a:chOff x="3505320" y="4267080"/>
            <a:chExt cx="1676160" cy="2051280"/>
          </a:xfrm>
        </p:grpSpPr>
        <p:grpSp>
          <p:nvGrpSpPr>
            <p:cNvPr id="401" name=""/>
            <p:cNvGrpSpPr/>
            <p:nvPr/>
          </p:nvGrpSpPr>
          <p:grpSpPr>
            <a:xfrm>
              <a:off x="3505320" y="4267080"/>
              <a:ext cx="1646280" cy="1600200"/>
              <a:chOff x="3505320" y="4267080"/>
              <a:chExt cx="1646280" cy="1600200"/>
            </a:xfrm>
          </p:grpSpPr>
          <p:sp>
            <p:nvSpPr>
              <p:cNvPr id="402" name=""/>
              <p:cNvSpPr/>
              <p:nvPr/>
            </p:nvSpPr>
            <p:spPr>
              <a:xfrm>
                <a:off x="3505320" y="4267080"/>
                <a:ext cx="1646280" cy="160020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95680" y="4331880"/>
                <a:ext cx="1465200" cy="111456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29200" y="5530680"/>
                <a:ext cx="47304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3581280" y="5715000"/>
              <a:ext cx="160020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DF73-8B68-45D8-97F5-9EAD98683A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Think Deeply Using Thematic Questions</a:t>
            </a:r>
            <a:endParaRPr b="1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81080" y="1295280"/>
            <a:ext cx="3543480" cy="2380680"/>
            <a:chOff x="181080" y="1295280"/>
            <a:chExt cx="3543480" cy="2380680"/>
          </a:xfrm>
        </p:grpSpPr>
        <p:sp>
          <p:nvSpPr>
            <p:cNvPr id="408" name=""/>
            <p:cNvSpPr txBox="1"/>
            <p:nvPr/>
          </p:nvSpPr>
          <p:spPr>
            <a:xfrm>
              <a:off x="184320" y="1295280"/>
              <a:ext cx="327636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cccc"/>
                      </a:gs>
                      <a:gs pos="100000">
                        <a:srgbClr val="ccecff"/>
                      </a:gs>
                    </a:gsLst>
                    <a:lin ang="5400000"/>
                  </a:gradFill>
                  <a:latin typeface="Impact"/>
                </a:rPr>
                <a:t>Event or Situa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1080" y="2362320"/>
              <a:ext cx="3543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o was involve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caused i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happened/develope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was the resul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181480" y="1295280"/>
            <a:ext cx="3276720" cy="2380680"/>
            <a:chOff x="5181480" y="1295280"/>
            <a:chExt cx="3276720" cy="2380680"/>
          </a:xfrm>
        </p:grpSpPr>
        <p:sp>
          <p:nvSpPr>
            <p:cNvPr id="411" name=""/>
            <p:cNvSpPr txBox="1"/>
            <p:nvPr/>
          </p:nvSpPr>
          <p:spPr>
            <a:xfrm>
              <a:off x="5181480" y="1295280"/>
              <a:ext cx="327672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ff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Impact"/>
                </a:rPr>
                <a:t>Concep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07000" y="2362320"/>
              <a:ext cx="2578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is i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re is it foun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ow did it develop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is its impac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80360" y="3962520"/>
            <a:ext cx="4415040" cy="2456640"/>
            <a:chOff x="180360" y="3962520"/>
            <a:chExt cx="4415040" cy="2456640"/>
          </a:xfrm>
        </p:grpSpPr>
        <p:sp>
          <p:nvSpPr>
            <p:cNvPr id="414" name=""/>
            <p:cNvSpPr txBox="1"/>
            <p:nvPr/>
          </p:nvSpPr>
          <p:spPr>
            <a:xfrm>
              <a:off x="184320" y="3962520"/>
              <a:ext cx="327636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00ff"/>
                      </a:gs>
                    </a:gsLst>
                    <a:lin ang="5400000"/>
                  </a:gradFill>
                  <a:latin typeface="Impact"/>
                </a:rPr>
                <a:t>Iss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0360" y="5105520"/>
              <a:ext cx="4415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are the issues/key idea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y is this an issu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was/might be its impact on…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ow does this relate to…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100840" y="3809880"/>
            <a:ext cx="4079880" cy="2609280"/>
            <a:chOff x="5100840" y="3809880"/>
            <a:chExt cx="4079880" cy="2609280"/>
          </a:xfrm>
        </p:grpSpPr>
        <p:sp>
          <p:nvSpPr>
            <p:cNvPr id="417" name=""/>
            <p:cNvSpPr txBox="1"/>
            <p:nvPr/>
          </p:nvSpPr>
          <p:spPr>
            <a:xfrm>
              <a:off x="5181480" y="3809880"/>
              <a:ext cx="327672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latin typeface="Impact"/>
                </a:rPr>
                <a:t>Pers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0840" y="5105520"/>
              <a:ext cx="4079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o/what inspired the perso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is his/her backgroun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developed his/her interes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was his/her significanc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733920" y="2743200"/>
            <a:ext cx="1523880" cy="15238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DA85-7621-4752-BC3F-15AB6086BA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Think Deeply Using Thematic Questions</a:t>
            </a:r>
            <a:endParaRPr b="1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1905120"/>
            <a:ext cx="1676160" cy="358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1447920"/>
            <a:ext cx="8021520" cy="747720"/>
            <a:chOff x="457200" y="1447920"/>
            <a:chExt cx="8021520" cy="747720"/>
          </a:xfrm>
        </p:grpSpPr>
        <p:sp>
          <p:nvSpPr>
            <p:cNvPr id="423" name=""/>
            <p:cNvSpPr/>
            <p:nvPr/>
          </p:nvSpPr>
          <p:spPr>
            <a:xfrm>
              <a:off x="6310800" y="1523880"/>
              <a:ext cx="216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WIL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4" name="Hrglass1" descr=""/>
            <p:cNvPicPr/>
            <p:nvPr/>
          </p:nvPicPr>
          <p:blipFill>
            <a:blip r:embed="rId1"/>
            <a:stretch/>
          </p:blipFill>
          <p:spPr>
            <a:xfrm>
              <a:off x="457200" y="1447920"/>
              <a:ext cx="39528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 txBox="1"/>
            <p:nvPr/>
          </p:nvSpPr>
          <p:spPr>
            <a:xfrm>
              <a:off x="1628640" y="1523880"/>
              <a:ext cx="23050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Prediction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28600" y="2743200"/>
            <a:ext cx="8860320" cy="723960"/>
            <a:chOff x="228600" y="2743200"/>
            <a:chExt cx="8860320" cy="723960"/>
          </a:xfrm>
        </p:grpSpPr>
        <p:pic>
          <p:nvPicPr>
            <p:cNvPr id="427" name="dice" descr=""/>
            <p:cNvPicPr/>
            <p:nvPr/>
          </p:nvPicPr>
          <p:blipFill>
            <a:blip r:embed="rId2"/>
            <a:stretch/>
          </p:blipFill>
          <p:spPr>
            <a:xfrm>
              <a:off x="228600" y="2817720"/>
              <a:ext cx="977760" cy="4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 txBox="1"/>
            <p:nvPr/>
          </p:nvSpPr>
          <p:spPr>
            <a:xfrm>
              <a:off x="1628640" y="2819520"/>
              <a:ext cx="25624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Probability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09720" y="2743200"/>
              <a:ext cx="27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WOUL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80880" y="3710160"/>
            <a:ext cx="7972560" cy="976320"/>
            <a:chOff x="380880" y="3710160"/>
            <a:chExt cx="7972560" cy="976320"/>
          </a:xfrm>
        </p:grpSpPr>
        <p:pic>
          <p:nvPicPr>
            <p:cNvPr id="431" name="light" descr=""/>
            <p:cNvPicPr/>
            <p:nvPr/>
          </p:nvPicPr>
          <p:blipFill>
            <a:blip r:embed="rId3"/>
            <a:stretch/>
          </p:blipFill>
          <p:spPr>
            <a:xfrm>
              <a:off x="380880" y="3710160"/>
              <a:ext cx="4795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 txBox="1"/>
            <p:nvPr/>
          </p:nvSpPr>
          <p:spPr>
            <a:xfrm>
              <a:off x="1628640" y="4038480"/>
              <a:ext cx="25624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Possibility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09000" y="3962520"/>
              <a:ext cx="204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C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66680" y="5081760"/>
            <a:ext cx="8668080" cy="861840"/>
            <a:chOff x="166680" y="5081760"/>
            <a:chExt cx="8668080" cy="861840"/>
          </a:xfrm>
        </p:grpSpPr>
        <p:pic>
          <p:nvPicPr>
            <p:cNvPr id="435" name="BS01316_" descr=""/>
            <p:cNvPicPr/>
            <p:nvPr/>
          </p:nvPicPr>
          <p:blipFill>
            <a:blip r:embed="rId4"/>
            <a:stretch/>
          </p:blipFill>
          <p:spPr>
            <a:xfrm>
              <a:off x="166680" y="5081760"/>
              <a:ext cx="82548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 txBox="1"/>
            <p:nvPr/>
          </p:nvSpPr>
          <p:spPr>
            <a:xfrm>
              <a:off x="1628640" y="5181480"/>
              <a:ext cx="25624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Imagining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10080" y="5181480"/>
              <a:ext cx="25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MIGH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4D90-DA2C-45A3-A0C7-07B0EE399F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Focus Statements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12193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 am resear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cause I want to find o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order to help my audience underst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EC9C4-3319-47A7-824E-2851514B1B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1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4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78960" y="1487520"/>
              <a:ext cx="683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00280" y="1487520"/>
              <a:ext cx="653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77240" y="770040"/>
              <a:ext cx="1544040" cy="7750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1 Prepar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63560" y="606240"/>
              <a:ext cx="662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50600" y="606240"/>
              <a:ext cx="761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pl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9960" y="1916280"/>
            <a:ext cx="794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the research proc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do I understand the purpose for research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do I understand the stages of resear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the assig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I hav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inal product, the audience, and the due d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it be evaluate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a portfolio that organizes the process and the projec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consider time management, with a research plan and timeli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include my notes, lists of resources, drafts, conferences, and records of my progr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D5E4-79D0-468D-9803-CFC7B0157A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Focus Statements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12193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 am researching </a:t>
            </a:r>
            <a:r>
              <a:rPr b="0" i="1" lang="en-US" sz="3600" spc="-1" strike="noStrike">
                <a:solidFill>
                  <a:srgbClr val="3333cc"/>
                </a:solidFill>
                <a:latin typeface="Bradley Hand ITC TT-Bold"/>
                <a:ea typeface="Arial"/>
              </a:rPr>
              <a:t>black h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cause I want to find out </a:t>
            </a:r>
            <a:r>
              <a:rPr b="0" i="1" lang="en-US" sz="3600" spc="-1" strike="noStrike">
                <a:solidFill>
                  <a:srgbClr val="3333cc"/>
                </a:solidFill>
                <a:latin typeface="Bradley Hand ITC TT-Bold"/>
                <a:ea typeface="Times New Roman"/>
              </a:rPr>
              <a:t>what they are, what causes them, and why they exi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  in order to help my audience understand </a:t>
            </a:r>
            <a:r>
              <a:rPr b="0" i="1" lang="en-US" sz="3600" spc="-1" strike="noStrike">
                <a:solidFill>
                  <a:srgbClr val="3333cc"/>
                </a:solidFill>
                <a:latin typeface="Bradley Hand ITC TT-Bold"/>
                <a:ea typeface="Times New Roman"/>
              </a:rPr>
              <a:t>why their existence is necessary in the univer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E789-32BB-4334-88F4-2DDCC39137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438280" y="1600200"/>
            <a:ext cx="3714840" cy="779760"/>
            <a:chOff x="2438280" y="1600200"/>
            <a:chExt cx="3714840" cy="779760"/>
          </a:xfrm>
        </p:grpSpPr>
        <p:pic>
          <p:nvPicPr>
            <p:cNvPr id="444" name="K" descr=""/>
            <p:cNvPicPr/>
            <p:nvPr/>
          </p:nvPicPr>
          <p:blipFill>
            <a:blip r:embed="rId1"/>
            <a:stretch/>
          </p:blipFill>
          <p:spPr>
            <a:xfrm>
              <a:off x="2438280" y="1600200"/>
              <a:ext cx="91440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276720" y="1981080"/>
              <a:ext cx="287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581200" y="2362320"/>
            <a:ext cx="5496120" cy="838080"/>
            <a:chOff x="2581200" y="2362320"/>
            <a:chExt cx="5496120" cy="838080"/>
          </a:xfrm>
        </p:grpSpPr>
        <p:sp>
          <p:nvSpPr>
            <p:cNvPr id="447" name=""/>
            <p:cNvSpPr/>
            <p:nvPr/>
          </p:nvSpPr>
          <p:spPr>
            <a:xfrm>
              <a:off x="3276720" y="272736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MPREHE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8" name="C" descr=""/>
            <p:cNvPicPr/>
            <p:nvPr/>
          </p:nvPicPr>
          <p:blipFill>
            <a:blip r:embed="rId2"/>
            <a:stretch/>
          </p:blipFill>
          <p:spPr>
            <a:xfrm>
              <a:off x="2581200" y="2362320"/>
              <a:ext cx="62712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"/>
          <p:cNvGrpSpPr/>
          <p:nvPr/>
        </p:nvGrpSpPr>
        <p:grpSpPr>
          <a:xfrm>
            <a:off x="2514600" y="3189240"/>
            <a:ext cx="4572000" cy="699120"/>
            <a:chOff x="2514600" y="3189240"/>
            <a:chExt cx="4572000" cy="699120"/>
          </a:xfrm>
        </p:grpSpPr>
        <p:sp>
          <p:nvSpPr>
            <p:cNvPr id="450" name=""/>
            <p:cNvSpPr/>
            <p:nvPr/>
          </p:nvSpPr>
          <p:spPr>
            <a:xfrm>
              <a:off x="3276720" y="348948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1" name="A" descr=""/>
            <p:cNvPicPr/>
            <p:nvPr/>
          </p:nvPicPr>
          <p:blipFill>
            <a:blip r:embed="rId3"/>
            <a:stretch/>
          </p:blipFill>
          <p:spPr>
            <a:xfrm>
              <a:off x="2514600" y="3189240"/>
              <a:ext cx="762120" cy="6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2" name=""/>
          <p:cNvSpPr/>
          <p:nvPr/>
        </p:nvSpPr>
        <p:spPr>
          <a:xfrm>
            <a:off x="2819160" y="91440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apted Bloom, 19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514600" y="3962520"/>
            <a:ext cx="3638520" cy="703440"/>
            <a:chOff x="2514600" y="3962520"/>
            <a:chExt cx="3638520" cy="703440"/>
          </a:xfrm>
        </p:grpSpPr>
        <p:sp>
          <p:nvSpPr>
            <p:cNvPr id="454" name=""/>
            <p:cNvSpPr/>
            <p:nvPr/>
          </p:nvSpPr>
          <p:spPr>
            <a:xfrm>
              <a:off x="3276720" y="4267080"/>
              <a:ext cx="287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LY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5" name="A" descr=""/>
            <p:cNvPicPr/>
            <p:nvPr/>
          </p:nvPicPr>
          <p:blipFill>
            <a:blip r:embed="rId4"/>
            <a:stretch/>
          </p:blipFill>
          <p:spPr>
            <a:xfrm>
              <a:off x="2514600" y="3962520"/>
              <a:ext cx="76212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"/>
          <p:cNvGrpSpPr/>
          <p:nvPr/>
        </p:nvGrpSpPr>
        <p:grpSpPr>
          <a:xfrm>
            <a:off x="2476440" y="4802040"/>
            <a:ext cx="3676680" cy="684360"/>
            <a:chOff x="2476440" y="4802040"/>
            <a:chExt cx="3676680" cy="684360"/>
          </a:xfrm>
        </p:grpSpPr>
        <p:sp>
          <p:nvSpPr>
            <p:cNvPr id="457" name=""/>
            <p:cNvSpPr/>
            <p:nvPr/>
          </p:nvSpPr>
          <p:spPr>
            <a:xfrm>
              <a:off x="3276720" y="5029200"/>
              <a:ext cx="287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YNTHE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8" name="S" descr=""/>
            <p:cNvPicPr/>
            <p:nvPr/>
          </p:nvPicPr>
          <p:blipFill>
            <a:blip r:embed="rId5"/>
            <a:stretch/>
          </p:blipFill>
          <p:spPr>
            <a:xfrm>
              <a:off x="2476440" y="4802040"/>
              <a:ext cx="838440" cy="6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2514600" y="5562720"/>
            <a:ext cx="3638520" cy="687600"/>
            <a:chOff x="2514600" y="5562720"/>
            <a:chExt cx="3638520" cy="687600"/>
          </a:xfrm>
        </p:grpSpPr>
        <p:sp>
          <p:nvSpPr>
            <p:cNvPr id="460" name=""/>
            <p:cNvSpPr/>
            <p:nvPr/>
          </p:nvSpPr>
          <p:spPr>
            <a:xfrm>
              <a:off x="3276720" y="5851440"/>
              <a:ext cx="287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L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1" name="E" descr=""/>
            <p:cNvPicPr/>
            <p:nvPr/>
          </p:nvPicPr>
          <p:blipFill>
            <a:blip r:embed="rId6"/>
            <a:stretch/>
          </p:blipFill>
          <p:spPr>
            <a:xfrm>
              <a:off x="2514600" y="5562720"/>
              <a:ext cx="76212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45CE-5CB5-4629-AAC5-9ACEB27187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2911320"/>
            <a:ext cx="80010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Identify and recall inform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e.g., Describe the role of a judge in Ontario court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K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1828800" cy="1430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438280" y="205740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WLE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96ED-7BF6-49D4-AE27-39A0C501F1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29113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e, select, and understand facts and idea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(e.g.,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Summarize the editorial’s key points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3720" y="2057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MPREH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C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142704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31E5-2993-4671-A956-2158F74C05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29113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Use facts, rules, and principles in a new situ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.g., Construct a diagram of solar energy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20574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A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1600200" cy="14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21FD-BD3B-40B6-AF32-6BD82B0D8B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38080" y="29113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Take information apart to understand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tingu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(e.g., Compare ingredients in household cleansers.)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2057400"/>
            <a:ext cx="28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A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1600200" cy="14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5E72-DC58-417F-9C12-92DC71BC72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29113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Bring ideas together to create new idea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arran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nstr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(e.g., Design a model for learning new math skills.)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2057400"/>
            <a:ext cx="28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S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1828800" cy="149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C65B-8939-4035-92B5-D58EE56BDC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38080" y="2911320"/>
            <a:ext cx="80010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Make judgments and decision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f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s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orit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(e.g., Justify the entrance of Canada into World War II.)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202572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E" descr=""/>
          <p:cNvPicPr/>
          <p:nvPr/>
        </p:nvPicPr>
        <p:blipFill>
          <a:blip r:embed="rId1"/>
          <a:stretch/>
        </p:blipFill>
        <p:spPr>
          <a:xfrm>
            <a:off x="762120" y="1208160"/>
            <a:ext cx="1600200" cy="136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74F1-7D7C-4FD6-B362-0CA9739CA1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coring Chart: Stage 1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106668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purpose of my assignment and how it will be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8000"/>
                </a:solidFill>
                <a:latin typeface="Arial"/>
                <a:ea typeface="Arial"/>
              </a:rPr>
              <a:t>I understand the due date(s), format, and length of my ass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 have explored and chosen a topic I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8000"/>
                </a:solidFill>
                <a:latin typeface="Arial"/>
                <a:ea typeface="Arial"/>
              </a:rPr>
              <a:t>I have shared my ideas and the reasons for my choice of topic with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 have asked research questions that demonstrate deep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8000"/>
                </a:solidFill>
                <a:latin typeface="Arial"/>
                <a:ea typeface="Arial"/>
              </a:rPr>
              <a:t>I have begun to plan my work in a timeline or age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 have begun to find materials for my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8000"/>
                </a:solidFill>
                <a:latin typeface="Arial"/>
                <a:ea typeface="Arial"/>
              </a:rPr>
              <a:t>I have formed a tentative focus for my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 have related prior knowledge to my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8000"/>
                </a:solidFill>
                <a:latin typeface="Arial"/>
                <a:ea typeface="Arial"/>
              </a:rPr>
              <a:t>I have begun to organize materials for my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FDC43-424A-4CD9-85B3-CAC6F9EA1E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1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5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78960" y="1487520"/>
              <a:ext cx="683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0280" y="1487520"/>
              <a:ext cx="653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77240" y="770040"/>
              <a:ext cx="1544040" cy="7750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1 Prepar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3560" y="606240"/>
              <a:ext cx="662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50600" y="606240"/>
              <a:ext cx="761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pl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85800" y="1143000"/>
            <a:ext cx="1768320" cy="509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3640" y="1992240"/>
            <a:ext cx="7940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ore the top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get an overview of my topic by using a variety of resources, including books, videos, experts, the Internet, and community resour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inst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consider my interes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share ideas with oth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develop my ideas using maps or web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classify ideas to look for patter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break down the topic to help develop a foc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he possible topics and subtop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topic manageable and meaningfu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E332-4DE6-4CA6-A204-8BE2B6A1A4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1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6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78960" y="1487520"/>
              <a:ext cx="683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00280" y="1487520"/>
              <a:ext cx="653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77240" y="770040"/>
              <a:ext cx="1544040" cy="7750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1 Prepar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63560" y="606240"/>
              <a:ext cx="662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50600" y="606240"/>
              <a:ext cx="761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pl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3640" y="1916280"/>
            <a:ext cx="8016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research ques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developed thoughtful questions that require research and analy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search strate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developed keywords for search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grouped the search terms toge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a focus stat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 state clearly what I am research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understand why this topic is important to my audience and 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C1C3-A251-4CBF-9E30-6C9AF472F0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1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7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78960" y="1487520"/>
              <a:ext cx="683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00280" y="1487520"/>
              <a:ext cx="653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77240" y="770040"/>
              <a:ext cx="1544040" cy="7750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1 Prepar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3560" y="606240"/>
              <a:ext cx="662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50600" y="606240"/>
              <a:ext cx="761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pl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9960" y="2068560"/>
            <a:ext cx="778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-N-R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ed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ources) ch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I wonder about the top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I know about the top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I need to find 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ost appropriate resources for this top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research topics and pl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talked to my peers and family about my ideas and  progr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had a conference with my teacher or teacher-librari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CAAD-BF39-47BE-91D3-215FD92773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616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ploring a Topic: Starting Your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j0281206" descr=""/>
          <p:cNvPicPr/>
          <p:nvPr/>
        </p:nvPicPr>
        <p:blipFill>
          <a:blip r:embed="rId1"/>
          <a:stretch/>
        </p:blipFill>
        <p:spPr>
          <a:xfrm>
            <a:off x="4027320" y="2998800"/>
            <a:ext cx="12304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812520" y="789120"/>
            <a:ext cx="3454200" cy="2171520"/>
            <a:chOff x="812520" y="789120"/>
            <a:chExt cx="3454200" cy="2171520"/>
          </a:xfrm>
        </p:grpSpPr>
        <p:sp>
          <p:nvSpPr>
            <p:cNvPr id="88" name=""/>
            <p:cNvSpPr/>
            <p:nvPr/>
          </p:nvSpPr>
          <p:spPr>
            <a:xfrm>
              <a:off x="1219320" y="922320"/>
              <a:ext cx="25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Wonder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812160" y="789120"/>
              <a:ext cx="3454200" cy="2171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080" y="2160720"/>
              <a:ext cx="332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at have I always wondered about this topic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978440" y="789120"/>
            <a:ext cx="3454200" cy="2171520"/>
            <a:chOff x="4978440" y="789120"/>
            <a:chExt cx="3454200" cy="2171520"/>
          </a:xfrm>
        </p:grpSpPr>
        <p:sp>
          <p:nvSpPr>
            <p:cNvPr id="92" name=""/>
            <p:cNvSpPr/>
            <p:nvPr/>
          </p:nvSpPr>
          <p:spPr>
            <a:xfrm>
              <a:off x="4978440" y="789120"/>
              <a:ext cx="3454200" cy="2171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92840" y="922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Ask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4120" y="2160720"/>
              <a:ext cx="294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at questions do I have about this topic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12520" y="4160880"/>
            <a:ext cx="3454200" cy="2171520"/>
            <a:chOff x="812520" y="4160880"/>
            <a:chExt cx="3454200" cy="2171520"/>
          </a:xfrm>
        </p:grpSpPr>
        <p:sp>
          <p:nvSpPr>
            <p:cNvPr id="96" name=""/>
            <p:cNvSpPr/>
            <p:nvPr/>
          </p:nvSpPr>
          <p:spPr>
            <a:xfrm>
              <a:off x="1422360" y="4294080"/>
              <a:ext cx="22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Relate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811800" y="4160880"/>
              <a:ext cx="3454200" cy="2171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5532480"/>
              <a:ext cx="33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w does this topic relate to my life now and in the future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978440" y="4160880"/>
            <a:ext cx="3454200" cy="2171520"/>
            <a:chOff x="4978440" y="4160880"/>
            <a:chExt cx="3454200" cy="2171520"/>
          </a:xfrm>
        </p:grpSpPr>
        <p:sp>
          <p:nvSpPr>
            <p:cNvPr id="100" name=""/>
            <p:cNvSpPr/>
            <p:nvPr/>
          </p:nvSpPr>
          <p:spPr>
            <a:xfrm>
              <a:off x="5587920" y="4294080"/>
              <a:ext cx="22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Begin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79960" y="4648320"/>
              <a:ext cx="2387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plore my textb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d a general encycloped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rowse magazi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ew a film or 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rf the 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k a friend or expe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978440" y="4160880"/>
              <a:ext cx="3454200" cy="2171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5520" y="560700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w do I begin find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re idea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915F-43CD-4C1D-9192-318D1565F1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81280" y="2895480"/>
            <a:ext cx="198144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0322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05320" y="609480"/>
            <a:ext cx="1981080" cy="2285640"/>
            <a:chOff x="3505320" y="609480"/>
            <a:chExt cx="1981080" cy="2285640"/>
          </a:xfrm>
        </p:grpSpPr>
        <p:grpSp>
          <p:nvGrpSpPr>
            <p:cNvPr id="107" name=""/>
            <p:cNvGrpSpPr/>
            <p:nvPr/>
          </p:nvGrpSpPr>
          <p:grpSpPr>
            <a:xfrm>
              <a:off x="3505320" y="609480"/>
              <a:ext cx="1981080" cy="2285640"/>
              <a:chOff x="3505320" y="609480"/>
              <a:chExt cx="1981080" cy="2285640"/>
            </a:xfrm>
          </p:grpSpPr>
          <p:sp>
            <p:nvSpPr>
              <p:cNvPr id="108" name=""/>
              <p:cNvSpPr/>
              <p:nvPr/>
            </p:nvSpPr>
            <p:spPr>
              <a:xfrm>
                <a:off x="3505320" y="609480"/>
                <a:ext cx="198108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4" idx="0"/>
                <a:endCxn id="108" idx="4"/>
              </p:cNvCxnSpPr>
              <p:nvPr/>
            </p:nvCxnSpPr>
            <p:spPr>
              <a:xfrm flipH="1" flipV="1">
                <a:off x="4495680" y="1751760"/>
                <a:ext cx="76680" cy="11437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10" name=""/>
            <p:cNvSpPr/>
            <p:nvPr/>
          </p:nvSpPr>
          <p:spPr>
            <a:xfrm>
              <a:off x="3809880" y="838080"/>
              <a:ext cx="131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gal Righ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271840" y="1219320"/>
            <a:ext cx="2805480" cy="1842480"/>
            <a:chOff x="5271840" y="1219320"/>
            <a:chExt cx="2805480" cy="1842480"/>
          </a:xfrm>
        </p:grpSpPr>
        <p:grpSp>
          <p:nvGrpSpPr>
            <p:cNvPr id="112" name=""/>
            <p:cNvGrpSpPr/>
            <p:nvPr/>
          </p:nvGrpSpPr>
          <p:grpSpPr>
            <a:xfrm>
              <a:off x="5271840" y="1219320"/>
              <a:ext cx="2805480" cy="1842480"/>
              <a:chOff x="5271840" y="1219320"/>
              <a:chExt cx="2805480" cy="1842480"/>
            </a:xfrm>
          </p:grpSpPr>
          <p:sp>
            <p:nvSpPr>
              <p:cNvPr id="113" name=""/>
              <p:cNvSpPr/>
              <p:nvPr/>
            </p:nvSpPr>
            <p:spPr>
              <a:xfrm>
                <a:off x="6095880" y="1219320"/>
                <a:ext cx="198144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" name=""/>
              <p:cNvCxnSpPr>
                <a:stCxn id="104" idx="7"/>
                <a:endCxn id="113" idx="3"/>
              </p:cNvCxnSpPr>
              <p:nvPr/>
            </p:nvCxnSpPr>
            <p:spPr>
              <a:xfrm flipV="1">
                <a:off x="5271840" y="2194920"/>
                <a:ext cx="1114920" cy="8672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15" name=""/>
            <p:cNvSpPr/>
            <p:nvPr/>
          </p:nvSpPr>
          <p:spPr>
            <a:xfrm>
              <a:off x="6172200" y="15843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1219320"/>
            <a:ext cx="2880720" cy="1842480"/>
            <a:chOff x="990720" y="1219320"/>
            <a:chExt cx="2880720" cy="1842480"/>
          </a:xfrm>
        </p:grpSpPr>
        <p:grpSp>
          <p:nvGrpSpPr>
            <p:cNvPr id="117" name=""/>
            <p:cNvGrpSpPr/>
            <p:nvPr/>
          </p:nvGrpSpPr>
          <p:grpSpPr>
            <a:xfrm>
              <a:off x="990720" y="1219320"/>
              <a:ext cx="2880720" cy="1842480"/>
              <a:chOff x="990720" y="1219320"/>
              <a:chExt cx="2880720" cy="1842480"/>
            </a:xfrm>
          </p:grpSpPr>
          <p:sp>
            <p:nvSpPr>
              <p:cNvPr id="118" name=""/>
              <p:cNvSpPr/>
              <p:nvPr/>
            </p:nvSpPr>
            <p:spPr>
              <a:xfrm>
                <a:off x="990720" y="1219320"/>
                <a:ext cx="198108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9" name=""/>
              <p:cNvCxnSpPr>
                <a:stCxn id="104" idx="1"/>
                <a:endCxn id="118" idx="5"/>
              </p:cNvCxnSpPr>
              <p:nvPr/>
            </p:nvCxnSpPr>
            <p:spPr>
              <a:xfrm flipH="1" flipV="1">
                <a:off x="2680560" y="2194920"/>
                <a:ext cx="1191240" cy="8672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20" name=""/>
            <p:cNvSpPr/>
            <p:nvPr/>
          </p:nvSpPr>
          <p:spPr>
            <a:xfrm>
              <a:off x="1219320" y="1279440"/>
              <a:ext cx="1463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2743200"/>
            <a:ext cx="3352680" cy="1143000"/>
            <a:chOff x="228600" y="2743200"/>
            <a:chExt cx="3352680" cy="1143000"/>
          </a:xfrm>
        </p:grpSpPr>
        <p:grpSp>
          <p:nvGrpSpPr>
            <p:cNvPr id="122" name=""/>
            <p:cNvGrpSpPr/>
            <p:nvPr/>
          </p:nvGrpSpPr>
          <p:grpSpPr>
            <a:xfrm>
              <a:off x="228600" y="2743200"/>
              <a:ext cx="3352680" cy="1143000"/>
              <a:chOff x="228600" y="2743200"/>
              <a:chExt cx="3352680" cy="1143000"/>
            </a:xfrm>
          </p:grpSpPr>
          <p:sp>
            <p:nvSpPr>
              <p:cNvPr id="123" name=""/>
              <p:cNvSpPr/>
              <p:nvPr/>
            </p:nvSpPr>
            <p:spPr>
              <a:xfrm>
                <a:off x="228600" y="2743200"/>
                <a:ext cx="198108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4" name=""/>
              <p:cNvCxnSpPr>
                <a:stCxn id="104" idx="2"/>
                <a:endCxn id="123" idx="6"/>
              </p:cNvCxnSpPr>
              <p:nvPr/>
            </p:nvCxnSpPr>
            <p:spPr>
              <a:xfrm flipH="1" flipV="1">
                <a:off x="2209320" y="3314160"/>
                <a:ext cx="1372320" cy="1530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25" name=""/>
            <p:cNvSpPr/>
            <p:nvPr/>
          </p:nvSpPr>
          <p:spPr>
            <a:xfrm>
              <a:off x="533520" y="2971800"/>
              <a:ext cx="1311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lth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9480" y="3871800"/>
            <a:ext cx="3261960" cy="1766880"/>
            <a:chOff x="609480" y="3871800"/>
            <a:chExt cx="3261960" cy="1766880"/>
          </a:xfrm>
        </p:grpSpPr>
        <p:grpSp>
          <p:nvGrpSpPr>
            <p:cNvPr id="127" name=""/>
            <p:cNvGrpSpPr/>
            <p:nvPr/>
          </p:nvGrpSpPr>
          <p:grpSpPr>
            <a:xfrm>
              <a:off x="609480" y="3871800"/>
              <a:ext cx="3261960" cy="1766880"/>
              <a:chOff x="609480" y="3871800"/>
              <a:chExt cx="3261960" cy="1766880"/>
            </a:xfrm>
          </p:grpSpPr>
          <p:sp>
            <p:nvSpPr>
              <p:cNvPr id="128" name=""/>
              <p:cNvSpPr/>
              <p:nvPr/>
            </p:nvSpPr>
            <p:spPr>
              <a:xfrm>
                <a:off x="609480" y="4495680"/>
                <a:ext cx="198144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9" name=""/>
              <p:cNvCxnSpPr>
                <a:stCxn id="104" idx="3"/>
                <a:endCxn id="128" idx="7"/>
              </p:cNvCxnSpPr>
              <p:nvPr/>
            </p:nvCxnSpPr>
            <p:spPr>
              <a:xfrm flipH="1">
                <a:off x="2299680" y="3871800"/>
                <a:ext cx="1572120" cy="7912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30" name=""/>
            <p:cNvSpPr/>
            <p:nvPr/>
          </p:nvSpPr>
          <p:spPr>
            <a:xfrm>
              <a:off x="914400" y="4876920"/>
              <a:ext cx="13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u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200400" y="4038120"/>
            <a:ext cx="1981080" cy="2362680"/>
            <a:chOff x="3200400" y="4038120"/>
            <a:chExt cx="1981080" cy="2362680"/>
          </a:xfrm>
        </p:grpSpPr>
        <p:grpSp>
          <p:nvGrpSpPr>
            <p:cNvPr id="132" name=""/>
            <p:cNvGrpSpPr/>
            <p:nvPr/>
          </p:nvGrpSpPr>
          <p:grpSpPr>
            <a:xfrm>
              <a:off x="3200400" y="4038120"/>
              <a:ext cx="1981080" cy="2362680"/>
              <a:chOff x="3200400" y="4038120"/>
              <a:chExt cx="1981080" cy="2362680"/>
            </a:xfrm>
          </p:grpSpPr>
          <p:sp>
            <p:nvSpPr>
              <p:cNvPr id="133" name=""/>
              <p:cNvSpPr/>
              <p:nvPr/>
            </p:nvSpPr>
            <p:spPr>
              <a:xfrm>
                <a:off x="3200400" y="5257800"/>
                <a:ext cx="198108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4" name=""/>
              <p:cNvCxnSpPr>
                <a:stCxn id="104" idx="4"/>
                <a:endCxn id="133" idx="0"/>
              </p:cNvCxnSpPr>
              <p:nvPr/>
            </p:nvCxnSpPr>
            <p:spPr>
              <a:xfrm flipH="1">
                <a:off x="4190760" y="4038120"/>
                <a:ext cx="381600" cy="12200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35" name=""/>
            <p:cNvSpPr/>
            <p:nvPr/>
          </p:nvSpPr>
          <p:spPr>
            <a:xfrm>
              <a:off x="3352680" y="56386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ize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271840" y="3871800"/>
            <a:ext cx="2348280" cy="1766880"/>
            <a:chOff x="5271840" y="3871800"/>
            <a:chExt cx="2348280" cy="1766880"/>
          </a:xfrm>
        </p:grpSpPr>
        <p:grpSp>
          <p:nvGrpSpPr>
            <p:cNvPr id="137" name=""/>
            <p:cNvGrpSpPr/>
            <p:nvPr/>
          </p:nvGrpSpPr>
          <p:grpSpPr>
            <a:xfrm>
              <a:off x="5271840" y="3871800"/>
              <a:ext cx="2348280" cy="1766880"/>
              <a:chOff x="5271840" y="3871800"/>
              <a:chExt cx="2348280" cy="1766880"/>
            </a:xfrm>
          </p:grpSpPr>
          <p:sp>
            <p:nvSpPr>
              <p:cNvPr id="138" name=""/>
              <p:cNvSpPr/>
              <p:nvPr/>
            </p:nvSpPr>
            <p:spPr>
              <a:xfrm>
                <a:off x="5638680" y="4495680"/>
                <a:ext cx="198144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9" name=""/>
              <p:cNvCxnSpPr>
                <a:stCxn id="104" idx="5"/>
                <a:endCxn id="138" idx="1"/>
              </p:cNvCxnSpPr>
              <p:nvPr/>
            </p:nvCxnSpPr>
            <p:spPr>
              <a:xfrm>
                <a:off x="5271840" y="3871800"/>
                <a:ext cx="657720" cy="7912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0" name=""/>
            <p:cNvSpPr/>
            <p:nvPr/>
          </p:nvSpPr>
          <p:spPr>
            <a:xfrm>
              <a:off x="5775480" y="4724280"/>
              <a:ext cx="169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munity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562720" y="2971800"/>
            <a:ext cx="3276360" cy="1143000"/>
            <a:chOff x="5562720" y="2971800"/>
            <a:chExt cx="3276360" cy="1143000"/>
          </a:xfrm>
        </p:grpSpPr>
        <p:grpSp>
          <p:nvGrpSpPr>
            <p:cNvPr id="142" name=""/>
            <p:cNvGrpSpPr/>
            <p:nvPr/>
          </p:nvGrpSpPr>
          <p:grpSpPr>
            <a:xfrm>
              <a:off x="5562720" y="2971800"/>
              <a:ext cx="3276360" cy="1143000"/>
              <a:chOff x="5562720" y="2971800"/>
              <a:chExt cx="3276360" cy="1143000"/>
            </a:xfrm>
          </p:grpSpPr>
          <p:sp>
            <p:nvSpPr>
              <p:cNvPr id="143" name=""/>
              <p:cNvSpPr/>
              <p:nvPr/>
            </p:nvSpPr>
            <p:spPr>
              <a:xfrm>
                <a:off x="6858000" y="2971800"/>
                <a:ext cx="198108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4" name=""/>
              <p:cNvCxnSpPr>
                <a:stCxn id="104" idx="6"/>
                <a:endCxn id="143" idx="2"/>
              </p:cNvCxnSpPr>
              <p:nvPr/>
            </p:nvCxnSpPr>
            <p:spPr>
              <a:xfrm>
                <a:off x="5562720" y="3467160"/>
                <a:ext cx="1296000" cy="766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5" name=""/>
            <p:cNvSpPr/>
            <p:nvPr/>
          </p:nvSpPr>
          <p:spPr>
            <a:xfrm>
              <a:off x="7162920" y="3124080"/>
              <a:ext cx="1311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al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189160" y="-4932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trategy 1: 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5E45-3D0E-46F8-B75B-C533BD5C30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581280" y="2895480"/>
            <a:ext cx="19814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60948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525780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1219320"/>
            <a:ext cx="19814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297180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4495680"/>
            <a:ext cx="19814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1932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74320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495680"/>
            <a:ext cx="19814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7" idx="1"/>
            <a:endCxn id="153" idx="5"/>
          </p:cNvCxnSpPr>
          <p:nvPr/>
        </p:nvCxnSpPr>
        <p:spPr>
          <a:xfrm flipH="1" flipV="1">
            <a:off x="2680560" y="2194920"/>
            <a:ext cx="1191240" cy="86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7" idx="2"/>
            <a:endCxn id="154" idx="6"/>
          </p:cNvCxnSpPr>
          <p:nvPr/>
        </p:nvCxnSpPr>
        <p:spPr>
          <a:xfrm flipH="1" flipV="1">
            <a:off x="2209320" y="3314160"/>
            <a:ext cx="137232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7" idx="0"/>
            <a:endCxn id="148" idx="4"/>
          </p:cNvCxnSpPr>
          <p:nvPr/>
        </p:nvCxnSpPr>
        <p:spPr>
          <a:xfrm flipH="1" flipV="1">
            <a:off x="4495680" y="1751760"/>
            <a:ext cx="7668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7" idx="7"/>
            <a:endCxn id="150" idx="3"/>
          </p:cNvCxnSpPr>
          <p:nvPr/>
        </p:nvCxnSpPr>
        <p:spPr>
          <a:xfrm flipV="1">
            <a:off x="5271840" y="2194920"/>
            <a:ext cx="1114920" cy="86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7" idx="3"/>
            <a:endCxn id="155" idx="7"/>
          </p:cNvCxnSpPr>
          <p:nvPr/>
        </p:nvCxnSpPr>
        <p:spPr>
          <a:xfrm flipH="1">
            <a:off x="2299680" y="3871800"/>
            <a:ext cx="1572120" cy="79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7" idx="4"/>
            <a:endCxn id="149" idx="0"/>
          </p:cNvCxnSpPr>
          <p:nvPr/>
        </p:nvCxnSpPr>
        <p:spPr>
          <a:xfrm flipH="1">
            <a:off x="4190760" y="4038120"/>
            <a:ext cx="38160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47" idx="6"/>
            <a:endCxn id="151" idx="2"/>
          </p:cNvCxnSpPr>
          <p:nvPr/>
        </p:nvCxnSpPr>
        <p:spPr>
          <a:xfrm>
            <a:off x="5562720" y="3467160"/>
            <a:ext cx="129600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47" idx="5"/>
            <a:endCxn id="152" idx="1"/>
          </p:cNvCxnSpPr>
          <p:nvPr/>
        </p:nvCxnSpPr>
        <p:spPr>
          <a:xfrm>
            <a:off x="5271840" y="3871800"/>
            <a:ext cx="657720" cy="79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189160" y="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trategy 1: 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217F-DFD9-44D6-9CF2-88A830305C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76720" y="1676520"/>
            <a:ext cx="2438280" cy="14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5880" y="167652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6002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BROADLY             – Generali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1676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PEOPLE, PLACES,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7242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NARROW 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81976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SYNONYMS      – Find other ways to say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53240" y="4748040"/>
            <a:ext cx="32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CONNE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e to other subjects, discip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720" y="22096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y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26960" y="152280"/>
            <a:ext cx="4068720" cy="1509480"/>
            <a:chOff x="426960" y="152280"/>
            <a:chExt cx="4068720" cy="1509480"/>
          </a:xfrm>
        </p:grpSpPr>
        <p:sp>
          <p:nvSpPr>
            <p:cNvPr id="174" name=""/>
            <p:cNvSpPr/>
            <p:nvPr/>
          </p:nvSpPr>
          <p:spPr>
            <a:xfrm>
              <a:off x="426960" y="152280"/>
              <a:ext cx="2438640" cy="14479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65" idx="0"/>
              <a:endCxn id="174" idx="3"/>
            </p:cNvCxnSpPr>
            <p:nvPr/>
          </p:nvCxnSpPr>
          <p:spPr>
            <a:xfrm flipH="1" flipV="1">
              <a:off x="2865240" y="875520"/>
              <a:ext cx="1630800" cy="78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533880" y="6094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d and B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3280" y="2400480"/>
            <a:ext cx="2758680" cy="2323800"/>
            <a:chOff x="503280" y="2400480"/>
            <a:chExt cx="2758680" cy="2323800"/>
          </a:xfrm>
        </p:grpSpPr>
        <p:sp>
          <p:nvSpPr>
            <p:cNvPr id="178" name=""/>
            <p:cNvSpPr/>
            <p:nvPr/>
          </p:nvSpPr>
          <p:spPr>
            <a:xfrm>
              <a:off x="503280" y="3276720"/>
              <a:ext cx="2438280" cy="14475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65" idx="1"/>
              <a:endCxn id="178" idx="0"/>
            </p:cNvCxnSpPr>
            <p:nvPr/>
          </p:nvCxnSpPr>
          <p:spPr>
            <a:xfrm flipH="1">
              <a:off x="1721880" y="2400480"/>
              <a:ext cx="1540440" cy="87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685800" y="35971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ngers of Smo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495320" y="228600"/>
            <a:ext cx="4115160" cy="1447920"/>
            <a:chOff x="4495320" y="228600"/>
            <a:chExt cx="4115160" cy="1447920"/>
          </a:xfrm>
        </p:grpSpPr>
        <p:sp>
          <p:nvSpPr>
            <p:cNvPr id="182" name=""/>
            <p:cNvSpPr/>
            <p:nvPr/>
          </p:nvSpPr>
          <p:spPr>
            <a:xfrm>
              <a:off x="6172200" y="228600"/>
              <a:ext cx="2438280" cy="14479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65" idx="0"/>
              <a:endCxn id="182" idx="1"/>
            </p:cNvCxnSpPr>
            <p:nvPr/>
          </p:nvCxnSpPr>
          <p:spPr>
            <a:xfrm flipV="1">
              <a:off x="4495320" y="951840"/>
              <a:ext cx="1677240" cy="710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4" name=""/>
            <p:cNvSpPr/>
            <p:nvPr/>
          </p:nvSpPr>
          <p:spPr>
            <a:xfrm>
              <a:off x="6324480" y="533520"/>
              <a:ext cx="213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yms and Gymna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729400" y="2400480"/>
            <a:ext cx="2957400" cy="2323800"/>
            <a:chOff x="5729400" y="2400480"/>
            <a:chExt cx="2957400" cy="2323800"/>
          </a:xfrm>
        </p:grpSpPr>
        <p:sp>
          <p:nvSpPr>
            <p:cNvPr id="186" name=""/>
            <p:cNvSpPr/>
            <p:nvPr/>
          </p:nvSpPr>
          <p:spPr>
            <a:xfrm>
              <a:off x="6248520" y="3276720"/>
              <a:ext cx="2438280" cy="14475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65" idx="3"/>
              <a:endCxn id="186" idx="0"/>
            </p:cNvCxnSpPr>
            <p:nvPr/>
          </p:nvCxnSpPr>
          <p:spPr>
            <a:xfrm>
              <a:off x="5729400" y="2400480"/>
              <a:ext cx="1738800" cy="87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6477120" y="342900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le of the Arts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positive li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276720" y="3138120"/>
            <a:ext cx="2438280" cy="2653200"/>
            <a:chOff x="3276720" y="3138120"/>
            <a:chExt cx="2438280" cy="2653200"/>
          </a:xfrm>
        </p:grpSpPr>
        <p:sp>
          <p:nvSpPr>
            <p:cNvPr id="190" name=""/>
            <p:cNvSpPr/>
            <p:nvPr/>
          </p:nvSpPr>
          <p:spPr>
            <a:xfrm>
              <a:off x="3276720" y="4343400"/>
              <a:ext cx="2438280" cy="14479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65" idx="2"/>
              <a:endCxn id="190" idx="0"/>
            </p:cNvCxnSpPr>
            <p:nvPr/>
          </p:nvCxnSpPr>
          <p:spPr>
            <a:xfrm>
              <a:off x="4495320" y="3138120"/>
              <a:ext cx="1080" cy="12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2" name=""/>
            <p:cNvSpPr/>
            <p:nvPr/>
          </p:nvSpPr>
          <p:spPr>
            <a:xfrm>
              <a:off x="3635280" y="4495680"/>
              <a:ext cx="1722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t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ll-be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a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124080" y="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trategy 2  Guided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C608-E113-4441-8C90-21B1BE6D07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1:57:46Z</dcterms:created>
  <dc:creator>037763</dc:creator>
  <dc:description/>
  <dc:language>en-US</dc:language>
  <cp:lastModifiedBy>TDSB</cp:lastModifiedBy>
  <cp:lastPrinted>2005-11-10T15:56:44Z</cp:lastPrinted>
  <dcterms:modified xsi:type="dcterms:W3CDTF">2007-10-19T13:02:15Z</dcterms:modified>
  <cp:revision>20</cp:revision>
  <dc:subject/>
  <dc:title>The Power of Research</dc:title>
</cp:coreProperties>
</file>